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619-F41F-42DA-B1A5-AE30468F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1DC-8F50-459B-8118-163B5486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BBE-0504-4FA3-98C7-46E45E38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8A5-CE08-483F-88C6-75984A62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790-F50E-4763-BCF5-5642EB8A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2D5-A623-48C1-B768-7FEAF4C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6AD-FBA2-42AF-B6D6-DFC03CA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208-1409-4C67-917D-0BBB5C9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381-5598-41DD-AA18-509E4F92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C46-EBA4-4597-AE40-C2087AA5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86D-C7BC-4949-BEA4-7B33798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A9B-8670-42F5-A0BB-E231B299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9A4-A914-43EE-A67E-1B56169B4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i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076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5:50:04Z</dcterms:created>
  <dc:creator>Michal.Holliday</dc:creator>
  <dc:description/>
  <dc:language>en-US</dc:language>
  <cp:lastModifiedBy>Michal.Holliday</cp:lastModifiedBy>
  <dcterms:modified xsi:type="dcterms:W3CDTF">2001-04-19T06:02:00Z</dcterms:modified>
  <cp:revision>2</cp:revision>
  <dc:subject/>
  <dc:title>PowerPoint Presentation</dc:title>
</cp:coreProperties>
</file>